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9C9-1517-4857-9E8A-4363DD57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519-E86E-4791-83D8-574F1782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C59-B680-4284-A579-49A16512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1202-CE8B-4FD6-AEE7-8EAD444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66C-7747-45C8-A364-363CA0B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C89-B3AE-4564-A80B-05BC86EC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D28-40AF-49A2-9E92-AE0EF7FB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DDE-CF79-4D7E-8F7D-10F1A31E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FC9-60E7-4831-8930-B98683F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A98-2DD1-47DF-B02D-B3BFD755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1E12-138C-4F0A-B5C3-FD189BA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747F-0E3A-41FB-869F-18FD8B75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D11-F1E1-4489-BEAD-11C94C149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f our parents came to our Maths afternoon at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200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940360" y="450864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3132000" y="2276640"/>
            <a:ext cx="29149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59:35Z</dcterms:created>
  <dc:creator>01690112</dc:creator>
  <dc:description/>
  <dc:language>en-US</dc:language>
  <cp:lastModifiedBy>01690112</cp:lastModifiedBy>
  <dcterms:modified xsi:type="dcterms:W3CDTF">2009-07-21T10:02:52Z</dcterms:modified>
  <cp:revision>2</cp:revision>
  <dc:subject/>
  <dc:title>Some of our parents came to our Maths afternoon at school.</dc:title>
</cp:coreProperties>
</file>